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CBD-FE32-4C26-BD82-505A067B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83F-07ED-4DF9-A11F-1D30334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B05-710E-42B1-B77B-58652BF3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00F-E53D-4A5C-B7B4-6D0A10EB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305-19AF-4A8B-A0B3-5EE43E3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565-A3A9-445D-8D5A-E25DD4EB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16B-F4B6-49DB-ACD8-7C0744C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6D7-F26C-4AC8-B74C-4E4D57E3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BF4-C2CF-4220-A2E5-E6B4D9A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137-3248-42A8-B35E-DE88FC8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B44-FDCE-4659-A1BF-769BA31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9EA-4D5D-4477-AEF0-21E3BFB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D39-80D6-4EF3-A5AD-4296B1F96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8:29:50Z</dcterms:created>
  <dc:creator>abeason</dc:creator>
  <dc:description/>
  <dc:language>en-US</dc:language>
  <cp:lastModifiedBy>abeason</cp:lastModifiedBy>
  <dcterms:modified xsi:type="dcterms:W3CDTF">2009-01-14T18:29:54Z</dcterms:modified>
  <cp:revision>1</cp:revision>
  <dc:subject/>
  <dc:title>Slide 1</dc:title>
</cp:coreProperties>
</file>